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79C-AD30-4DDF-AB2E-C4C00E32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5F5-B40A-4675-9ABC-1CC0300E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BEB-BD62-4B6C-92C2-89E15287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D0A-6AFF-414F-98C9-4DE90E5F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841-202A-45D9-BA3D-525DE3BB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BDD-3C55-4B5D-B630-D4B1DAE0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4D79-58BC-4DF4-8B53-FCAFE7D7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8F7-B358-433E-BED0-48B5EF4D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B97-E232-485A-9910-87DDB692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54B-6633-46EA-9703-662D81CA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7CC-F708-4BDE-8D0D-312978D6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2FF-8578-4CEE-BD3D-502DC90E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D935-2316-44D7-AF3F-C5099C17EC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82480" y="5661000"/>
            <a:ext cx="80042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33"/>
                </a:solidFill>
                <a:latin typeface="Calibri"/>
              </a:rPr>
              <a:t>ПРЕЗЕНТАЦИЯ СДЕЛАНА ПО МАТЕРИАЛАМ ИССЛЕДОВАНИЯ ЛОНДОНСКОЙ ШКОЛЫ ЭКОНОМИКИ И ПОЛИТИЧЕСКИХ НАУК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2906640"/>
            <a:ext cx="8064720" cy="954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Риски и безопасность детей в Интернет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8955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Заголовок 1"/>
          <p:cNvSpPr/>
          <p:nvPr/>
        </p:nvSpPr>
        <p:spPr>
          <a:xfrm>
            <a:off x="1187280" y="907920"/>
            <a:ext cx="6769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Позитивный конт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одзаголовок 2"/>
          <p:cNvSpPr/>
          <p:nvPr/>
        </p:nvSpPr>
        <p:spPr>
          <a:xfrm>
            <a:off x="395280" y="1557360"/>
            <a:ext cx="8497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 Интернете есть много интересного и полезного для детей любого возрас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44% сказали «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но верно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» 46% сказали «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екоторой степени верно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» 10% сказали «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верно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лько  34%  9-10-летних детей сказали «совершенно верн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pic>
        <p:nvPicPr>
          <p:cNvPr id="73" name="Диаграмма 4" descr=""/>
          <p:cNvPicPr/>
          <p:nvPr/>
        </p:nvPicPr>
        <p:blipFill>
          <a:blip r:embed="rId2"/>
          <a:stretch/>
        </p:blipFill>
        <p:spPr>
          <a:xfrm>
            <a:off x="324000" y="2997360"/>
            <a:ext cx="820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Заголовок 1"/>
          <p:cNvSpPr/>
          <p:nvPr/>
        </p:nvSpPr>
        <p:spPr>
          <a:xfrm>
            <a:off x="684360" y="98100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Онлайн коммун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pic>
        <p:nvPicPr>
          <p:cNvPr id="76" name="Диаграмма 3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4105440" cy="4895640"/>
          </a:xfrm>
          <a:prstGeom prst="rect">
            <a:avLst/>
          </a:prstGeom>
          <a:ln w="0">
            <a:noFill/>
          </a:ln>
        </p:spPr>
      </p:pic>
      <p:pic>
        <p:nvPicPr>
          <p:cNvPr id="77" name="Диаграмма 4" descr=""/>
          <p:cNvPicPr/>
          <p:nvPr/>
        </p:nvPicPr>
        <p:blipFill>
          <a:blip r:embed="rId3"/>
          <a:stretch/>
        </p:blipFill>
        <p:spPr>
          <a:xfrm>
            <a:off x="4716360" y="1773360"/>
            <a:ext cx="4103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одзаголовок 2"/>
          <p:cNvSpPr/>
          <p:nvPr/>
        </p:nvSpPr>
        <p:spPr>
          <a:xfrm>
            <a:off x="611280" y="2421000"/>
            <a:ext cx="7632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Факторы, формирующие опыт детей в Интер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5761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Изображения сексуального характер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78920" y="1341360"/>
            <a:ext cx="5472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Видели изображения сексуального характера в Интернете и вне Интерн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23%  видели изображения сексуального характера в Интернете и вне Интерн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Кто?</a:t>
            </a: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24% мальчиков в возрасте13-16 лет в основном видели изображения в Интернет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Где?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14 % - Интернет 12% -ТВ, кино, видео 7% - журна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Что?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11% - обнаженное тело, 8% - занимающихся сексом, 8% - гениталии, 2% - насильственный/ жестокий сек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Диаграмма 3" descr=""/>
          <p:cNvPicPr/>
          <p:nvPr/>
        </p:nvPicPr>
        <p:blipFill>
          <a:blip r:embed="rId1"/>
          <a:stretch/>
        </p:blipFill>
        <p:spPr>
          <a:xfrm>
            <a:off x="5796000" y="260280"/>
            <a:ext cx="3143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5257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Издевательства  в Интернете и вне Интер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5257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558ed5"/>
                </a:solidFill>
                <a:latin typeface="Calibri"/>
              </a:rPr>
              <a:t>«Иногда дети или подростки  говорят или делают неприятные вещи друг другу. Они обзывают, бьют, пинают или толкают друг друга, забирают друг у друга вещ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558ed5"/>
                </a:solidFill>
                <a:latin typeface="Calibri"/>
              </a:rPr>
              <a:t>Кто-нибудь поступал так с тобой за последний год? Обижали  ли тебя в Интернете?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19% знают людей которые ведут себя таким образом в Интернете и вне Интерн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558ed5"/>
                </a:solidFill>
                <a:latin typeface="Calibri"/>
              </a:rPr>
              <a:t>Кто?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9% девочек 13-16 лет подвергались издевательствам в Интернет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558ed5"/>
                </a:solidFill>
                <a:latin typeface="Calibri"/>
              </a:rPr>
              <a:t>Как?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13% пережили этот опыт в реальной жизни, 6% - в Интернете, 3%  по мобильному телефону,  чаще всего это происходит через </a:t>
            </a:r>
            <a:r>
              <a:rPr b="1" lang="en-US" sz="1400" spc="-1" strike="noStrike">
                <a:solidFill>
                  <a:srgbClr val="660033"/>
                </a:solidFill>
                <a:latin typeface="Calibri"/>
              </a:rPr>
              <a:t>SNS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или </a:t>
            </a:r>
            <a:r>
              <a:rPr b="1" lang="en-US" sz="1400" spc="-1" strike="noStrike">
                <a:solidFill>
                  <a:srgbClr val="660033"/>
                </a:solidFill>
                <a:latin typeface="Calibri"/>
              </a:rPr>
              <a:t>IM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 (программа мгновенной передачи сообщений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558ed5"/>
                </a:solidFill>
                <a:latin typeface="Calibri"/>
              </a:rPr>
              <a:t>Что?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4% сообщения обидного характера, 1% получали угрозы по Интерне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12% издевались над другими в реальности, 3% - в Интернет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Диаграмма 3" descr=""/>
          <p:cNvPicPr/>
          <p:nvPr/>
        </p:nvPicPr>
        <p:blipFill>
          <a:blip r:embed="rId1"/>
          <a:stretch/>
        </p:blipFill>
        <p:spPr>
          <a:xfrm>
            <a:off x="5651640" y="189000"/>
            <a:ext cx="32875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5256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Отправляли/получали сообщения сексуального характера (от 11ле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9280" y="1989000"/>
            <a:ext cx="5329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558ed5"/>
                </a:solidFill>
                <a:latin typeface="Calibri"/>
              </a:rPr>
              <a:t>«Люди занимаются разными вещами в Интернете, иногда они могут отправлять сообщения или изображения сексуального характера, говорят о сексе, изображениях обнаженных  или занимающихся сексом люд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558ed5"/>
                </a:solidFill>
                <a:latin typeface="Calibri"/>
              </a:rPr>
              <a:t>Вы видели/получали/отправляли сообщение сексуального характера по Интернету?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15% видели/получали изображения сексуального характера по Интерне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3% отправляли изображения сексуального характера по Интерне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70c0"/>
                </a:solidFill>
                <a:latin typeface="Calibri"/>
              </a:rPr>
              <a:t>Кто?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22%  подростки 15-16 л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70c0"/>
                </a:solidFill>
                <a:latin typeface="Calibri"/>
              </a:rPr>
              <a:t>Как? 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«Всплывающие окна», </a:t>
            </a:r>
            <a:r>
              <a:rPr b="1" lang="en-US" sz="1400" spc="-1" strike="noStrike">
                <a:solidFill>
                  <a:srgbClr val="660033"/>
                </a:solidFill>
                <a:latin typeface="Calibri"/>
              </a:rPr>
              <a:t>IM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, </a:t>
            </a:r>
            <a:r>
              <a:rPr b="1" lang="en-US" sz="1400" spc="-1" strike="noStrike">
                <a:solidFill>
                  <a:srgbClr val="660033"/>
                </a:solidFill>
                <a:latin typeface="Calibri"/>
              </a:rPr>
              <a:t>SNS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услуг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70c0"/>
                </a:solidFill>
                <a:latin typeface="Calibri"/>
              </a:rPr>
              <a:t>Что?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5% видели как люди занимаются  сексом, 2% получали предложение поговорить о половом акте, 2%  получали предложения сфотографировать или снять на видео  генитал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Диаграмма 3" descr=""/>
          <p:cNvPicPr/>
          <p:nvPr/>
        </p:nvPicPr>
        <p:blipFill>
          <a:blip r:embed="rId1"/>
          <a:stretch/>
        </p:blipFill>
        <p:spPr>
          <a:xfrm>
            <a:off x="5724360" y="189000"/>
            <a:ext cx="31435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51130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Знакомства с новыми людь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5040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Calibri"/>
              </a:rPr>
              <a:t>«Вы когда-нибудь общались по Интернету с людьми, которых никогда до этого не знали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Calibri"/>
              </a:rPr>
              <a:t>Вы когда-нибудь встречались лично со своими интернет-друзьями?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30% впервые познакомились в Интерне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9% встречались лично со своими интернет-друзья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Больше контактов в Сети – больше личных встре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55% познакомились со одним или двумя людьми таким способом; 23% познакомились с пятью и более людь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57% при личной встрече встретили знакомых людей,  45% -новых люд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Диаграмма 3" descr=""/>
          <p:cNvPicPr/>
          <p:nvPr/>
        </p:nvPicPr>
        <p:blipFill>
          <a:blip r:embed="rId1"/>
          <a:stretch/>
        </p:blipFill>
        <p:spPr>
          <a:xfrm>
            <a:off x="5508720" y="189000"/>
            <a:ext cx="3359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Осведомленность  р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1412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Calibri"/>
              </a:rPr>
              <a:t>             </a:t>
            </a:r>
            <a:r>
              <a:rPr b="1" lang="ru-RU" sz="1500" spc="-1" strike="noStrike">
                <a:solidFill>
                  <a:srgbClr val="660033"/>
                </a:solidFill>
                <a:latin typeface="Calibri"/>
              </a:rPr>
              <a:t>Дети, подвергшиеся определенному  риску  в Интернете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70c0"/>
                </a:solidFill>
                <a:latin typeface="Calibri"/>
              </a:rPr>
              <a:t>Видели  изображения сексуального характера в Интернете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500" spc="-1" strike="noStrike">
                <a:solidFill>
                  <a:srgbClr val="c00000"/>
                </a:solidFill>
                <a:latin typeface="Calibri"/>
              </a:rPr>
              <a:t>40% </a:t>
            </a:r>
            <a:r>
              <a:rPr b="1" lang="ru-RU" sz="1500" spc="-1" strike="noStrike">
                <a:solidFill>
                  <a:srgbClr val="660033"/>
                </a:solidFill>
                <a:latin typeface="Calibri"/>
              </a:rPr>
              <a:t>родителей не знают об этом, 26% сказали что не знают, по крайней мере знают когда девочки (46%) или маленькие дети  </a:t>
            </a:r>
            <a:r>
              <a:rPr b="1" lang="en-US" sz="1500" spc="-1" strike="noStrike">
                <a:solidFill>
                  <a:srgbClr val="660033"/>
                </a:solidFill>
                <a:latin typeface="Calibri"/>
              </a:rPr>
              <a:t>(54% </a:t>
            </a:r>
            <a:r>
              <a:rPr b="1" lang="ru-RU" sz="15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en-US" sz="1500" spc="-1" strike="noStrike">
                <a:solidFill>
                  <a:srgbClr val="660033"/>
                </a:solidFill>
                <a:latin typeface="Calibri"/>
              </a:rPr>
              <a:t>9-10 </a:t>
            </a:r>
            <a:r>
              <a:rPr b="1" lang="ru-RU" sz="1500" spc="-1" strike="noStrike">
                <a:solidFill>
                  <a:srgbClr val="660033"/>
                </a:solidFill>
                <a:latin typeface="Calibri"/>
              </a:rPr>
              <a:t>и</a:t>
            </a:r>
            <a:r>
              <a:rPr b="1" lang="en-US" sz="1500" spc="-1" strike="noStrike">
                <a:solidFill>
                  <a:srgbClr val="660033"/>
                </a:solidFill>
                <a:latin typeface="Calibri"/>
              </a:rPr>
              <a:t> 11-12 </a:t>
            </a:r>
            <a:r>
              <a:rPr b="1" lang="ru-RU" sz="1500" spc="-1" strike="noStrike">
                <a:solidFill>
                  <a:srgbClr val="660033"/>
                </a:solidFill>
                <a:latin typeface="Calibri"/>
              </a:rPr>
              <a:t>летние) видели изображения сексуального характер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70c0"/>
                </a:solidFill>
                <a:latin typeface="Calibri"/>
              </a:rPr>
              <a:t>Подвергались издевательству в Интернете:</a:t>
            </a:r>
            <a:br>
              <a:rPr sz="1500"/>
            </a:br>
            <a:r>
              <a:rPr b="1" lang="ru-RU" sz="1500" spc="-1" strike="noStrike">
                <a:solidFill>
                  <a:srgbClr val="c00000"/>
                </a:solidFill>
                <a:latin typeface="Calibri"/>
              </a:rPr>
              <a:t>56% </a:t>
            </a:r>
            <a:r>
              <a:rPr b="1" lang="ru-RU" sz="1500" spc="-1" strike="noStrike">
                <a:solidFill>
                  <a:srgbClr val="660033"/>
                </a:solidFill>
                <a:latin typeface="Calibri"/>
              </a:rPr>
              <a:t>родителей не осведомлены об этом, 15 % сказали что не знают об этом, 65% родителей в меньшей степени осведомлены о том, когда это происходит с их 9-10 летними детьм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70c0"/>
                </a:solidFill>
                <a:latin typeface="Calibri"/>
              </a:rPr>
              <a:t>Получали сообщения сексуального характера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c00000"/>
                </a:solidFill>
                <a:latin typeface="Calibri"/>
              </a:rPr>
              <a:t>52%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660033"/>
                </a:solidFill>
                <a:latin typeface="Calibri"/>
              </a:rPr>
              <a:t>родителей не осведомлены об этом, 27% сказали что не знают об этом, родители маленьких детей, и социально-благополучные  семьи знают о ситуац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70c0"/>
                </a:solidFill>
                <a:latin typeface="Calibri"/>
              </a:rPr>
              <a:t>Встречались лично со своими знакомыми по Интернету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500" spc="-1" strike="noStrike">
                <a:solidFill>
                  <a:srgbClr val="c00000"/>
                </a:solidFill>
                <a:latin typeface="Calibri"/>
              </a:rPr>
              <a:t>61%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500" spc="-1" strike="noStrike">
                <a:solidFill>
                  <a:srgbClr val="660033"/>
                </a:solidFill>
                <a:latin typeface="Calibri"/>
              </a:rPr>
              <a:t>родителей не осведомлены об этом, 11% сказали что не знают об этом, родители маленьких детей, мальчиков и социально благополучные семьи знают о ситуац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5650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Каковы последствия для дет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5257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Риск причинить вред</a:t>
            </a:r>
            <a:br>
              <a:rPr sz="2800"/>
            </a:b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Изображения сексуального характ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496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14% видели изображение сексуального характера в Интерне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Только у 4%  это вызвало психологический дискомфор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У девочек и детей младшего возраста изображения такого рода вызывают большой психологический дискомфор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Среди тех, кто испытал дискомфорт </a:t>
            </a:r>
            <a:r>
              <a:rPr b="1" lang="en-US" sz="1800" spc="-1" strike="noStrike">
                <a:solidFill>
                  <a:srgbClr val="660033"/>
                </a:solidFill>
                <a:latin typeface="Calibri"/>
              </a:rPr>
              <a:t>4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660033"/>
                </a:solidFill>
                <a:latin typeface="Calibri"/>
              </a:rPr>
              <a:t>%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были немного расстроены</a:t>
            </a:r>
            <a:r>
              <a:rPr b="1" lang="en-US" sz="1800" spc="-1" strike="noStrike">
                <a:solidFill>
                  <a:srgbClr val="660033"/>
                </a:solidFill>
                <a:latin typeface="Calibri"/>
              </a:rPr>
              <a:t>,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28</a:t>
            </a:r>
            <a:r>
              <a:rPr b="1" lang="en-US" sz="1800" spc="-1" strike="noStrike">
                <a:solidFill>
                  <a:srgbClr val="660033"/>
                </a:solidFill>
                <a:latin typeface="Calibri"/>
              </a:rPr>
              <a:t>%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были довольно расстроены, </a:t>
            </a:r>
            <a:r>
              <a:rPr b="1" lang="en-US" sz="1800" spc="-1" strike="noStrike">
                <a:solidFill>
                  <a:srgbClr val="660033"/>
                </a:solidFill>
                <a:latin typeface="Calibri"/>
              </a:rPr>
              <a:t>1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660033"/>
                </a:solidFill>
                <a:latin typeface="Calibri"/>
              </a:rPr>
              <a:t>%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были очень расстрое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Большинство детей пережили это лег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Диаграмма 4" descr=""/>
          <p:cNvPicPr/>
          <p:nvPr/>
        </p:nvPicPr>
        <p:blipFill>
          <a:blip r:embed="rId1"/>
          <a:stretch/>
        </p:blipFill>
        <p:spPr>
          <a:xfrm>
            <a:off x="5508720" y="404640"/>
            <a:ext cx="3311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Как дети используют Интерне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5651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Каков риск причинить вред?</a:t>
            </a:r>
            <a:br>
              <a:rPr sz="2800"/>
            </a:b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Издевательства в Интерне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3640" y="1988640"/>
            <a:ext cx="482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Среди 6 % подвергшихся издевательствам в Интернет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30% - были немного расстроены, 24% - расстроены, 31% - очень расстрое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Кто был больше расстроен?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Дети младшего возраста, девочки, дети из социально незащищенных сем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Как долго они были расстроены?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62 % сразу справились с этим, 31%  - были расстроены несколько последующих дней, 6% - были расстроены в течение нескольких последующих неде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pic>
        <p:nvPicPr>
          <p:cNvPr id="103" name="Диаграмма 4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887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5184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Каков риск причинить вред?</a:t>
            </a:r>
            <a:br>
              <a:rPr sz="2800"/>
            </a:b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Рассылки сексуального характер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15 % детей получали сообщения сексуального характера в Интерне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но лишь у 4%  это вызвало психологический дискомфор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Девочки испытывают больший дискомфорт/беспокойство, чем мальч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Подростки чаще получают сообщения такого рода, а у детей младшего возраста это вызывает больший дискомфор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Среди тех, кто испытал дискомфорт </a:t>
            </a:r>
            <a:r>
              <a:rPr b="1" lang="en-US" sz="1600" spc="-1" strike="noStrike">
                <a:solidFill>
                  <a:srgbClr val="660033"/>
                </a:solidFill>
                <a:latin typeface="Calibri"/>
              </a:rPr>
              <a:t>47%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были немного расстроены</a:t>
            </a:r>
            <a:r>
              <a:rPr b="1" lang="en-US" sz="1600" spc="-1" strike="noStrike">
                <a:solidFill>
                  <a:srgbClr val="660033"/>
                </a:solidFill>
                <a:latin typeface="Calibri"/>
              </a:rPr>
              <a:t>, 30%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были расстроены, </a:t>
            </a:r>
            <a:r>
              <a:rPr b="1" lang="en-US" sz="1600" spc="-1" strike="noStrike">
                <a:solidFill>
                  <a:srgbClr val="660033"/>
                </a:solidFill>
                <a:latin typeface="Calibri"/>
              </a:rPr>
              <a:t>15%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были очень расстрое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Диаграмма 3" descr=""/>
          <p:cNvPicPr/>
          <p:nvPr/>
        </p:nvPicPr>
        <p:blipFill>
          <a:blip r:embed="rId1"/>
          <a:stretch/>
        </p:blipFill>
        <p:spPr>
          <a:xfrm>
            <a:off x="5508720" y="404640"/>
            <a:ext cx="3311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5040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alibri"/>
              </a:rPr>
              <a:t>Основные </a:t>
            </a: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внешние </a:t>
            </a:r>
            <a:r>
              <a:rPr b="1" lang="en-US" sz="2800" spc="-1" strike="noStrike">
                <a:solidFill>
                  <a:srgbClr val="660033"/>
                </a:solidFill>
                <a:latin typeface="Calibri"/>
              </a:rPr>
              <a:t>угроз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489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0070c0"/>
                </a:solidFill>
                <a:latin typeface="Calibri"/>
              </a:rPr>
              <a:t>«Под понятием испытать тревогу, беспокойство, дискомфорт  мы подразумеваем то, что ты бы не хотел видеть в Интернете, или расстроился от увиденного, испытал неловкость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660033"/>
                </a:solidFill>
                <a:latin typeface="Calibri"/>
              </a:rPr>
              <a:t>55%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думают, что некоторые вещи в Интернете вызывают психологический дискомфорт у людей их возрас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660033"/>
                </a:solidFill>
                <a:latin typeface="Calibri"/>
              </a:rPr>
              <a:t>12%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сами испытали дискомфорт ;  8 % родителей сказали, что их ребенок испытал  психологический дискомфорт( беспокойств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Дети 9-10 летнего возраста  не испытывали большого дискомфор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Диаграмма 3" descr=""/>
          <p:cNvPicPr/>
          <p:nvPr/>
        </p:nvPicPr>
        <p:blipFill>
          <a:blip r:embed="rId1"/>
          <a:stretch/>
        </p:blipFill>
        <p:spPr>
          <a:xfrm>
            <a:off x="5508720" y="404640"/>
            <a:ext cx="3311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Решение проблемы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дети, подвергшиеся риску и испытывающие от этого психологический дискомфо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324000" y="1989000"/>
          <a:ext cx="8569080" cy="4500720"/>
        </p:xfrm>
        <a:graphic>
          <a:graphicData uri="http://schemas.openxmlformats.org/drawingml/2006/table">
            <a:tbl>
              <a:tblPr/>
              <a:tblGrid>
                <a:gridCol w="2141280"/>
                <a:gridCol w="2143080"/>
                <a:gridCol w="2141640"/>
                <a:gridCol w="2143080"/>
              </a:tblGrid>
              <a:tr h="57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у рассказываю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ТО ДЕЛАЮ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МОЩЬ В ИНТЕРНЕТЕ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БРАЖЕНИЯ СЕКСУАЛЬНОГО ХАРАКТ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% незнакомым люд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 ДРУЗЬЯМ 25% РОДИТЕЛ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 БРАТЬЯМ/СЕСТРАМ 3% УЧИТЕЛ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% НАДЕЮТСЯ, ЧТО ЭТО ПРОЙД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% ПЫТАЮТСЯ РЕШИТЬ Э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 ЧУВСТВУЮТ ВИ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% УДАЛЯЮТ СООБЩ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 ПЕРЕСТАЮТ ПОЛЬЗОВАТЬСЯ ИНТЕРНЕТ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90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ДЕВАТЕЛЬ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% незнакомым люд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 ДРУЗЬЯМ  40% РОДИТЕЛ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 БРАТЬЯМ/СЕСТРАМ 7% УЧИТЕЛ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% НАДЕЮТСЯ, ЧТО ЭТО ПРОЙД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% ПЫТАЮТСЯ РЕШИТЬ Э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 ЧУВСТВУЮТ ВИ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% БЛОКИРУЮТ ОППОНЕН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% УДАЛЯЮТ СООБЩ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97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БЩЕНИЯ СЕКСУАЛЬНОГО ХАРАКТ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 незнакомым люд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% ДРУЗЬЯМ 29% РОДИТЕЛ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% БРАТЬЯМ/СЕСТРАМ 2% УЧИТЕЛ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% НАДЕЮТСЯ, ЧТО ЭТО ПРОЙД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% ПЫТАЮТСЯ РЕШИТЬ Э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 ЧУВСТВУЮТ ВИ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 БЛОКИРУЮТ ОППОНЕН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 УДАЛЯЮТ СООБЩ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КОМСТВА И ВСТРЕЧИ ВНЕ  С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%  НЕЗНАКОМЫМ ЛЮДЯМ В ПЕРВУЮ ОЧЕРЕД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% ВСТРЕЧАЮТСЯ С НЕЗНАКОМЫМИ ЛЮД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% НЕЗНАКОМЫМ ЛЮДЯМ (ПОСЛЕ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 НАДЕЮТСЯ, ЧТО ЭТО ПРОЙД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% ПЫТАЮТСЯ РЕШИТЬ Э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 ЧУВСТВУЮТ ВИ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% БЛОКИРУЮТ ОППОНЕН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 УДАЛЯЮТ СООБЩ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одзаголовок 2"/>
          <p:cNvSpPr/>
          <p:nvPr/>
        </p:nvSpPr>
        <p:spPr>
          <a:xfrm>
            <a:off x="1332000" y="242100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Что помогает детям набирать опыт работы в Интерн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Заголовок 1"/>
          <p:cNvSpPr/>
          <p:nvPr/>
        </p:nvSpPr>
        <p:spPr>
          <a:xfrm>
            <a:off x="250920" y="0"/>
            <a:ext cx="4033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Родительские возможности обеспечения Интернет-безопасности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8000" y="981000"/>
          <a:ext cx="4176720" cy="5821560"/>
        </p:xfrm>
        <a:graphic>
          <a:graphicData uri="http://schemas.openxmlformats.org/drawingml/2006/table">
            <a:tbl>
              <a:tblPr/>
              <a:tblGrid>
                <a:gridCol w="1224000"/>
                <a:gridCol w="649080"/>
                <a:gridCol w="574920"/>
                <a:gridCol w="647640"/>
                <a:gridCol w="649080"/>
                <a:gridCol w="43200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детей сказали, что иногда их р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-12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-16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ьч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в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ьч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вочк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говаривают с ребенком о том, чем он занимается в интерне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ходятся рядом, когда ребенок пользуется интернет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ощряют ребенка к самостоятельному изучению Интерн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дят вместе с ребенком за компьютером, когда он пользуется интернет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утешествуют в Интернете вместе с ребенк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но или несколько утвер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572000" y="41400"/>
          <a:ext cx="4295880" cy="6716520"/>
        </p:xfrm>
        <a:graphic>
          <a:graphicData uri="http://schemas.openxmlformats.org/drawingml/2006/table">
            <a:tbl>
              <a:tblPr/>
              <a:tblGrid>
                <a:gridCol w="1224000"/>
                <a:gridCol w="720720"/>
                <a:gridCol w="647640"/>
                <a:gridCol w="647640"/>
                <a:gridCol w="576360"/>
                <a:gridCol w="47952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детей сказали, что р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-12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-16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ьч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в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ьч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в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яснили им почему одни сайты хорошие, а другие плох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гли детям, когда им было трудно что-то найти или сделать в Интерне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яснили правила безопасной работы в Интерне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чили их уважать других пользователей в Интерне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да разговаривают с ними, когда что-то в Интернете вызывает  у детей психологический дискомф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гали, когда у детей что-нибудь в Интернете вызывало психологический дискомф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но или несколько утвер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19" name="Заголовок 1"/>
          <p:cNvSpPr/>
          <p:nvPr/>
        </p:nvSpPr>
        <p:spPr>
          <a:xfrm>
            <a:off x="179280" y="907920"/>
            <a:ext cx="8713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Родительский конт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484280"/>
          <a:ext cx="4321080" cy="5222880"/>
        </p:xfrm>
        <a:graphic>
          <a:graphicData uri="http://schemas.openxmlformats.org/drawingml/2006/table">
            <a:tbl>
              <a:tblPr/>
              <a:tblGrid>
                <a:gridCol w="1295280"/>
                <a:gridCol w="720720"/>
                <a:gridCol w="576360"/>
                <a:gridCol w="647640"/>
                <a:gridCol w="647640"/>
                <a:gridCol w="43344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сказали, что правила установлены на следующе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-12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-16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ьч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в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ьч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в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дача личной информации в Интерне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грузка фотографий/видео, чтобы поделиться с другими в Интерне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ачивание музыки или фильм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своего аккаунта в  Се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мотр видеоклипов в Интерне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ование программы мгновенной передачи сообщ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но или несколько утвержд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572000" y="1484280"/>
          <a:ext cx="4367160" cy="5245200"/>
        </p:xfrm>
        <a:graphic>
          <a:graphicData uri="http://schemas.openxmlformats.org/drawingml/2006/table">
            <a:tbl>
              <a:tblPr/>
              <a:tblGrid>
                <a:gridCol w="1204920"/>
                <a:gridCol w="777960"/>
                <a:gridCol w="637920"/>
                <a:gridCol w="638280"/>
                <a:gridCol w="636480"/>
                <a:gridCol w="47160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детей сказали, что их родители использ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-12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-16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ьч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в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ьч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в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мное обеспечение для защиты от спама и вирус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ю родительского контроля или другие средства блокирования/ фильтрации некоторых сай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ю родительского контроля, чтобы отслеживать сайты, которые посещают их де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угу ограничения времени посещения Интерн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но или несколько утвержд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Диаграмма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105440" cy="4896000"/>
          </a:xfrm>
          <a:prstGeom prst="rect">
            <a:avLst/>
          </a:prstGeom>
          <a:ln w="0">
            <a:noFill/>
          </a:ln>
        </p:spPr>
      </p:pic>
      <p:pic>
        <p:nvPicPr>
          <p:cNvPr id="123" name="Диаграмма 3" descr=""/>
          <p:cNvPicPr/>
          <p:nvPr/>
        </p:nvPicPr>
        <p:blipFill>
          <a:blip r:embed="rId2"/>
          <a:stretch/>
        </p:blipFill>
        <p:spPr>
          <a:xfrm>
            <a:off x="5796000" y="333360"/>
            <a:ext cx="2879640" cy="6120000"/>
          </a:xfrm>
          <a:prstGeom prst="rect">
            <a:avLst/>
          </a:prstGeom>
          <a:ln w="0">
            <a:noFill/>
          </a:ln>
        </p:spPr>
      </p:pic>
      <p:sp>
        <p:nvSpPr>
          <p:cNvPr id="124" name="Заголовок 1"/>
          <p:cNvSpPr/>
          <p:nvPr/>
        </p:nvSpPr>
        <p:spPr>
          <a:xfrm>
            <a:off x="179280" y="260280"/>
            <a:ext cx="5472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Кто предлагает безопасные способы использования Интерн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Заголовок 1"/>
          <p:cNvSpPr/>
          <p:nvPr/>
        </p:nvSpPr>
        <p:spPr>
          <a:xfrm>
            <a:off x="108000" y="189000"/>
            <a:ext cx="5327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Кто дает сове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(детям, родителя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413000"/>
          <a:ext cx="4824360" cy="5056200"/>
        </p:xfrm>
        <a:graphic>
          <a:graphicData uri="http://schemas.openxmlformats.org/drawingml/2006/table">
            <a:tbl>
              <a:tblPr/>
              <a:tblGrid>
                <a:gridCol w="1368360"/>
                <a:gridCol w="792360"/>
                <a:gridCol w="792000"/>
                <a:gridCol w="719280"/>
                <a:gridCol w="649440"/>
                <a:gridCol w="502920"/>
              </a:tblGrid>
              <a:tr h="311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-12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-16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</a:tr>
              <a:tr h="31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ьч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в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ьч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в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ствен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и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7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нет-провайд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ый работ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блиотек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 не получал ни от кого 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</a:tr>
            </a:tbl>
          </a:graphicData>
        </a:graphic>
      </p:graphicFrame>
      <p:pic>
        <p:nvPicPr>
          <p:cNvPr id="127" name="Диаграмма 3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3430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Заголовок 1"/>
          <p:cNvSpPr/>
          <p:nvPr/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Заинтересованные/Вовлеченные сторо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2"/>
          <p:cNvSpPr/>
          <p:nvPr/>
        </p:nvSpPr>
        <p:spPr>
          <a:xfrm>
            <a:off x="3564000" y="1700280"/>
            <a:ext cx="1871640" cy="1728720"/>
          </a:xfrm>
          <a:prstGeom prst="ellipse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3"/>
          <p:cNvSpPr/>
          <p:nvPr/>
        </p:nvSpPr>
        <p:spPr>
          <a:xfrm>
            <a:off x="4932360" y="2637000"/>
            <a:ext cx="1800360" cy="1728720"/>
          </a:xfrm>
          <a:prstGeom prst="ellipse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4"/>
          <p:cNvSpPr/>
          <p:nvPr/>
        </p:nvSpPr>
        <p:spPr>
          <a:xfrm>
            <a:off x="4427640" y="4076640"/>
            <a:ext cx="1873080" cy="1728720"/>
          </a:xfrm>
          <a:prstGeom prst="ellipse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5"/>
          <p:cNvSpPr/>
          <p:nvPr/>
        </p:nvSpPr>
        <p:spPr>
          <a:xfrm>
            <a:off x="2700360" y="4076640"/>
            <a:ext cx="1871640" cy="1728720"/>
          </a:xfrm>
          <a:prstGeom prst="ellipse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6"/>
          <p:cNvSpPr/>
          <p:nvPr/>
        </p:nvSpPr>
        <p:spPr>
          <a:xfrm>
            <a:off x="2195640" y="2637000"/>
            <a:ext cx="1871640" cy="1728720"/>
          </a:xfrm>
          <a:prstGeom prst="ellipse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7"/>
          <p:cNvSpPr/>
          <p:nvPr/>
        </p:nvSpPr>
        <p:spPr>
          <a:xfrm>
            <a:off x="3492360" y="2924280"/>
            <a:ext cx="1871640" cy="1728720"/>
          </a:xfrm>
          <a:prstGeom prst="ellipse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55432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Стремительное распространение домашнего Интер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3640" y="2637000"/>
            <a:ext cx="17269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87% используют до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49%  имеют свою  комна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Рост личного использования Интернет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Социальное расслоение и возраст имеют большее значение, чем по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Национальный менталит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Диаграмма 6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2757240" cy="6481800"/>
          </a:xfrm>
          <a:prstGeom prst="rect">
            <a:avLst/>
          </a:prstGeom>
          <a:ln w="0">
            <a:noFill/>
          </a:ln>
        </p:spPr>
      </p:pic>
      <p:pic>
        <p:nvPicPr>
          <p:cNvPr id="49" name="Диаграмма 5" descr=""/>
          <p:cNvPicPr/>
          <p:nvPr/>
        </p:nvPicPr>
        <p:blipFill>
          <a:blip r:embed="rId2"/>
          <a:stretch/>
        </p:blipFill>
        <p:spPr>
          <a:xfrm>
            <a:off x="1908000" y="2565360"/>
            <a:ext cx="4124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Заголовок 1"/>
          <p:cNvSpPr/>
          <p:nvPr/>
        </p:nvSpPr>
        <p:spPr>
          <a:xfrm>
            <a:off x="826920" y="907920"/>
            <a:ext cx="7772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РЕКОМЕНД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дзаголовок 2"/>
          <p:cNvSpPr/>
          <p:nvPr/>
        </p:nvSpPr>
        <p:spPr>
          <a:xfrm>
            <a:off x="53964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одители  - необходимо повышать осведомленность родителей о потенциальных рисках и опасностях для детей в Интернете; поощрять общение и взаимопонимание между родителями и деть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– дать возможность всем детям овладевать необходимыми  цифровыми навыками и умениями; содействовать развитию творческого потенциала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изнес - необходимы усилия по поддержке инициатив, направленных на разработку инструментов по безопасности в Интернете, развитию программ по защите, блокировке и  фильтрованию нежелательного конт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изнес   – менее половины детей в возрасте 9-16 лет удовлетворены  содержанием  Интернета, однако,  аудитория младшего возраста  нуждается в более позитивном и соответствующему возрасту  on-line контен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ти, гражданское общество – необходимо  поощрять детей  нести ответственность за свое поведение  и  безопасность в Интернете , прививать правила хорошего поведения в виртуальном мире, тем самым способствуя развитию «цифрового гражданств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58e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58e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58e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5113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Рост доступа в Интернет через мобильные устрой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8920" y="2349360"/>
            <a:ext cx="2089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12% через портативные устрой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33% через мобильные или портативные устрой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Возможность гибкого доступ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Возраст и социальное расслоение имеют зна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Национальный менталит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Диаграмма 3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4292640" cy="4535640"/>
          </a:xfrm>
          <a:prstGeom prst="rect">
            <a:avLst/>
          </a:prstGeom>
          <a:ln w="0">
            <a:noFill/>
          </a:ln>
        </p:spPr>
      </p:pic>
      <p:pic>
        <p:nvPicPr>
          <p:cNvPr id="53" name="Диаграмма 4" descr=""/>
          <p:cNvPicPr/>
          <p:nvPr/>
        </p:nvPicPr>
        <p:blipFill>
          <a:blip r:embed="rId2"/>
          <a:stretch/>
        </p:blipFill>
        <p:spPr>
          <a:xfrm>
            <a:off x="5867280" y="384120"/>
            <a:ext cx="297504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836640"/>
            <a:ext cx="8712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Интернет прочно вошел в нашу жизнь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Пользователи Интернета стали моло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23640" y="1844280"/>
            <a:ext cx="460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60% каждый день/почти каждый ден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 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93% один раз в недел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88 минут в день  в Интерне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Значение социально – экономиче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защищенности при ежедневном использовании Интернета:</a:t>
            </a:r>
            <a:r>
              <a:rPr b="1" lang="en-US" sz="1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67%  при высоком социальном расслоении  </a:t>
            </a:r>
            <a:r>
              <a:rPr b="1" i="1" lang="en-US" sz="1200" spc="-1" strike="noStrike">
                <a:solidFill>
                  <a:srgbClr val="0070c0"/>
                </a:solidFill>
                <a:latin typeface="Calibri"/>
              </a:rPr>
              <a:t>vs</a:t>
            </a: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 52% при низком социальном рассло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Значение возраста при  ежедневном  использовании Интернета:  </a:t>
            </a: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33% в возрасте 9-10 лет и 80% 15-16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Дети впервые начали использовать Интернет в 9 лет:</a:t>
            </a: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9-10 –летние в первый раз вошли в Сеть в 7 лет, 15-16-летние – в 11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pic>
        <p:nvPicPr>
          <p:cNvPr id="57" name="Диаграмма 4" descr=""/>
          <p:cNvPicPr/>
          <p:nvPr/>
        </p:nvPicPr>
        <p:blipFill>
          <a:blip r:embed="rId2"/>
          <a:stretch/>
        </p:blipFill>
        <p:spPr>
          <a:xfrm>
            <a:off x="4910040" y="2039760"/>
            <a:ext cx="3762360" cy="434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6227640" y="6308640"/>
          <a:ext cx="2305080" cy="287280"/>
        </p:xfrm>
        <a:graphic>
          <a:graphicData uri="http://schemas.openxmlformats.org/drawingml/2006/table">
            <a:tbl>
              <a:tblPr/>
              <a:tblGrid>
                <a:gridCol w="2305080"/>
              </a:tblGrid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ут  в день  в  Интерне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000" y="1052640"/>
            <a:ext cx="8640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Я знаю об Интернете больше, чем мои родит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pic>
        <p:nvPicPr>
          <p:cNvPr id="61" name="Диаграмма 5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5994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1"/>
          <p:cNvSpPr/>
          <p:nvPr/>
        </p:nvSpPr>
        <p:spPr>
          <a:xfrm>
            <a:off x="250920" y="333360"/>
            <a:ext cx="511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Чрезмерное использование Интер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дзаголовок 2"/>
          <p:cNvSpPr/>
          <p:nvPr/>
        </p:nvSpPr>
        <p:spPr>
          <a:xfrm>
            <a:off x="250920" y="1484280"/>
            <a:ext cx="4537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       </a:t>
            </a:r>
            <a:r>
              <a:rPr b="1" lang="ru-RU" sz="1600" spc="-1" strike="noStrike">
                <a:solidFill>
                  <a:srgbClr val="558ed5"/>
                </a:solidFill>
                <a:latin typeface="Calibri"/>
              </a:rPr>
              <a:t>%</a:t>
            </a: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558ed5"/>
                </a:solidFill>
                <a:latin typeface="Calibri"/>
              </a:rPr>
              <a:t>детей, кто  регулярно или час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езуспешно пытались проводить меньше времени в Сети - 1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деляли меньше времени друзьям, семье или выполнению домашнего задания  из за Интернета - 1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ходились в Сети, даже когда им было неинтересно – 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щущали психологический дискомфорт, не имея возможности пользоваться Интернетом - 11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тавались голодными и не спали из-за Интернета 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        </a:t>
            </a:r>
            <a:r>
              <a:rPr b="1" lang="ru-RU" sz="1600" spc="-1" strike="noStrike">
                <a:solidFill>
                  <a:srgbClr val="558ed5"/>
                </a:solidFill>
                <a:latin typeface="Calibri"/>
              </a:rPr>
              <a:t>30% опрошенных согласились с одним (или более) из приведенных утверж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Диаграмма 3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2879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одзаголовок 2"/>
          <p:cNvSpPr/>
          <p:nvPr/>
        </p:nvSpPr>
        <p:spPr>
          <a:xfrm>
            <a:off x="1476360" y="2997360"/>
            <a:ext cx="5904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Чем занимаются дети в интерн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1"/>
          <p:cNvSpPr/>
          <p:nvPr/>
        </p:nvSpPr>
        <p:spPr>
          <a:xfrm>
            <a:off x="1116000" y="907920"/>
            <a:ext cx="6696000" cy="649440"/>
          </a:xfrm>
          <a:prstGeom prst="rect">
            <a:avLst/>
          </a:prstGeom>
          <a:solidFill>
            <a:srgbClr val="b9cde5"/>
          </a:solidFill>
          <a:ln w="1260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libri"/>
              </a:rPr>
              <a:t>Широкие возможности Интер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pic>
        <p:nvPicPr>
          <p:cNvPr id="69" name="Диаграмма 3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6842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7:30:30Z</dcterms:created>
  <dc:creator>user-11</dc:creator>
  <dc:description/>
  <dc:language>en-US</dc:language>
  <cp:lastModifiedBy>КОТЁНОК</cp:lastModifiedBy>
  <dcterms:modified xsi:type="dcterms:W3CDTF">2014-02-04T16:46:04Z</dcterms:modified>
  <cp:revision>144</cp:revision>
  <dc:subject/>
  <dc:title>Слайд 1</dc:title>
</cp:coreProperties>
</file>